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2C4-DEFF-462C-8E87-B3C67A45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C12-8E3C-4F2E-9A18-4C4F0B0B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255-1ED0-47EE-812B-6590B43F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846-51FC-4BBA-B8A2-2D57FCD3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653-4743-480C-ABCB-256FCFD6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CC1-F149-4F88-AFE8-BECDA042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509-C87A-46C9-9F4E-A2CFF997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9DA-3384-4DBB-A86C-45D083D6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9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9D4-CA9D-4040-8BDF-783FAF48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E6F-C232-48E1-A3D6-40BBAEEF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B77-17BC-4C5C-9985-DE81B912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BE41-4655-4545-ABEE-AEA467F7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896F-A3F4-4995-A0E4-9F3CBA3104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189000"/>
            <a:ext cx="8610480" cy="187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ement of bootup time using Power Manage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Project Update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13192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ソニ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神長浩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minaga@sm.sony.co.j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A5B-EC1C-44F9-9A84-59DE60F1FF8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その他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M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転送でイメージ読み込み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高速に出来ない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-hibernate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開始時間自体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早められない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ブートローダとの協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775-23A9-40E8-973E-9B850A6B1F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34360" y="3081240"/>
            <a:ext cx="14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5BD-6B63-4E63-B6C8-D2EC0FEDB1D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趣旨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-to-disk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技術を用い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システムの起動高速化を検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開発の各フェーズのスナップショット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保存（検証などの目的に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BAC-5E89-41E6-A777-D2AD487FB0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前回までのあらまし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機能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ポーティングし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: 2.6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機能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ポーティングした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uspend2-2.2-rc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: 2.6.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6F5-6B7C-4ADF-8F47-6596BBB0C5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の現状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2-rc9: ARM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ポーティング済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2-rc13: Suspend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サポートが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取り込まれ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2-rc16: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現在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版をデバッグ中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（佳境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今回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2-rc14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評価し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（動作が確認されている最新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A9A-F683-4B78-871D-C026EF8CCE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環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38098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ターゲットボー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AP Starter Kit (OSK 59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 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書き込み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sh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osk.jpg"/>
          <p:cNvPicPr/>
          <p:nvPr/>
        </p:nvPicPr>
        <p:blipFill>
          <a:blip r:embed="rId2"/>
          <a:stretch/>
        </p:blipFill>
        <p:spPr>
          <a:xfrm>
            <a:off x="5651640" y="333360"/>
            <a:ext cx="3095640" cy="2325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03640" y="2792520"/>
            <a:ext cx="3961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 Feat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9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P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V320AIC23 Stereo Cod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DDR SD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Flash 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232 Serial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BPS Etherne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B Hos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ct flash conn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board IEEE 1149.1 J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1EF-0A03-4BE8-82B1-835A70297E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測定方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k times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用い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 make menuconfi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Kernel hacking   ---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[*] Show timing information on print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8AA-46A2-4DA9-8FCC-C379CAB745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測定結果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052640"/>
          <a:ext cx="7631280" cy="4984560"/>
        </p:xfrm>
        <a:graphic>
          <a:graphicData uri="http://schemas.openxmlformats.org/drawingml/2006/table">
            <a:tbl>
              <a:tblPr/>
              <a:tblGrid>
                <a:gridCol w="3598920"/>
                <a:gridCol w="2016000"/>
                <a:gridCol w="2016360"/>
              </a:tblGrid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la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-hibernate start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9193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9198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-hibernate end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32175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94119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-hibernate delta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72978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34920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data delta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8325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8546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cache delta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6208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9957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total delta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4534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18124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8444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6796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age size [MB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7968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6171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speed [MB/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8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2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237440" y="61657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46A-A7BF-4D36-A6B5-1CD2FF44D8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 FLASH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の読込速度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T28F128J3FS-12 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 bit / 120ns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Cycle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資料より）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894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 time dd if=/dev/mtdblock3 of=/dev/null \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s=1024 count=1024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0.07 sys 2.2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 4.44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686-4D41-4960-A3B7-9AF22AB2F2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今後の課題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パフォーマンスアナライザなどでの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ボトルネック解析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起動時間短縮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デバッグツール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cXX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バグ解析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00840" y="5370480"/>
            <a:ext cx="59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KST?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T?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Ta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CC9-F047-49DF-BD5B-917C95E985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Masato Abe</dc:creator>
  <dc:description/>
  <dc:language>en-US</dc:language>
  <cp:lastModifiedBy>kaminaga</cp:lastModifiedBy>
  <dcterms:modified xsi:type="dcterms:W3CDTF">2006-01-20T10:15:23Z</dcterms:modified>
  <cp:revision>3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3331358</vt:r8>
  </property>
  <property fmtid="{D5CDD505-2E9C-101B-9397-08002B2CF9AE}" pid="3" name="_AuthorEmail">
    <vt:lpwstr>Satoru.Ueda@jp.sony.com</vt:lpwstr>
  </property>
  <property fmtid="{D5CDD505-2E9C-101B-9397-08002B2CF9AE}" pid="4" name="_AuthorEmailDisplayName">
    <vt:lpwstr>Satoru Ueda</vt:lpwstr>
  </property>
  <property fmtid="{D5CDD505-2E9C-101B-9397-08002B2CF9AE}" pid="5" name="_EmailSubject">
    <vt:lpwstr>Tokyo TechnoJam</vt:lpwstr>
  </property>
  <property fmtid="{D5CDD505-2E9C-101B-9397-08002B2CF9AE}" pid="6" name="_ReviewingToolsShownOnce">
    <vt:lpwstr/>
  </property>
</Properties>
</file>